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ACHDAV: Selecting Noticing Targ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26572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/15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95120" y="525600"/>
            <a:ext cx="3505320" cy="262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3328560"/>
            <a:ext cx="7435800" cy="3156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65748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M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265720" y="665748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DA2E-C03C-449C-A912-5B2030BF5D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29880" y="3328560"/>
            <a:ext cx="7435800" cy="315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F534A-25F9-4CF9-BEA2-01ABC7127F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Date Placeholder 4"/>
          <p:cNvSpPr/>
          <p:nvPr/>
        </p:nvSpPr>
        <p:spPr>
          <a:xfrm>
            <a:off x="5265720" y="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/15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Footer Placeholder 5"/>
          <p:cNvSpPr/>
          <p:nvPr/>
        </p:nvSpPr>
        <p:spPr>
          <a:xfrm>
            <a:off x="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M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Header Placeholder 6"/>
          <p:cNvSpPr/>
          <p:nvPr/>
        </p:nvSpPr>
        <p:spPr>
          <a:xfrm>
            <a:off x="0" y="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ACHDAV: Selecting Noticing Targ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992F-DD0F-4E47-8F67-738807A84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0226-A4E4-4B7E-A8B9-3AD5652BC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2262-9FAF-4FFA-85E6-8F5A5EFCF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C2A0-7869-40D0-B5DB-24174F39F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0984-8819-4BC8-9B3F-6C9A2575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359F-8AC9-4BC2-9E74-D7DF7483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5284-6520-48A6-88EB-2C3FE1CD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5F68-523A-4775-A8AB-16412C6D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1053-39E0-4223-B0C6-B4E9BA84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B7F7-2050-4683-9EBA-F6FCD97E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1482-062C-47F9-B776-28825BB2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1D35-88B5-4CD0-9230-F29D7174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1/15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71A4D-74EE-4814-90BA-3D06F8D6FB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lecting Tar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ach teacher on the PL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 collaboration with the other members of the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ith support from the consult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ounded Rectangle 5"/>
          <p:cNvSpPr/>
          <p:nvPr/>
        </p:nvSpPr>
        <p:spPr>
          <a:xfrm>
            <a:off x="838080" y="2590920"/>
            <a:ext cx="3200400" cy="26668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WH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lecting Tar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Shortly after YACHDAV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55" name="Rounded Rectangle 6"/>
          <p:cNvSpPr/>
          <p:nvPr/>
        </p:nvSpPr>
        <p:spPr>
          <a:xfrm>
            <a:off x="838080" y="2590920"/>
            <a:ext cx="3200400" cy="26668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WHEN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lecting Tar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 Tar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 each from Knowing, Doing, Believing &amp; Belong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lated to priority go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lated to each 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92440" y="2720880"/>
            <a:ext cx="2939760" cy="240948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WHA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AutoShape 2"/>
          <p:cNvSpPr/>
          <p:nvPr/>
        </p:nvSpPr>
        <p:spPr>
          <a:xfrm>
            <a:off x="2971800" y="533520"/>
            <a:ext cx="3200400" cy="6858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iority Go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AutoShape 3"/>
          <p:cNvSpPr/>
          <p:nvPr/>
        </p:nvSpPr>
        <p:spPr>
          <a:xfrm>
            <a:off x="4419720" y="1295280"/>
            <a:ext cx="399960" cy="335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2514600" y="1676520"/>
            <a:ext cx="4038480" cy="106668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lect or Create 4 Tar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val 6"/>
          <p:cNvSpPr/>
          <p:nvPr/>
        </p:nvSpPr>
        <p:spPr>
          <a:xfrm>
            <a:off x="304920" y="3733920"/>
            <a:ext cx="2133360" cy="9903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NOWING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Oval 7"/>
          <p:cNvSpPr/>
          <p:nvPr/>
        </p:nvSpPr>
        <p:spPr>
          <a:xfrm>
            <a:off x="2514600" y="3657600"/>
            <a:ext cx="2133720" cy="9907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O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Oval 46"/>
          <p:cNvSpPr/>
          <p:nvPr/>
        </p:nvSpPr>
        <p:spPr>
          <a:xfrm>
            <a:off x="4648320" y="3657600"/>
            <a:ext cx="2133360" cy="9907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BELIEV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val 48"/>
          <p:cNvSpPr/>
          <p:nvPr/>
        </p:nvSpPr>
        <p:spPr>
          <a:xfrm>
            <a:off x="6858000" y="3657600"/>
            <a:ext cx="2133720" cy="9907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BELONGIN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traight Connector 42"/>
          <p:cNvSpPr/>
          <p:nvPr/>
        </p:nvSpPr>
        <p:spPr>
          <a:xfrm flipV="1">
            <a:off x="1523880" y="2743200"/>
            <a:ext cx="1752840" cy="990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traight Connector 44"/>
          <p:cNvSpPr/>
          <p:nvPr/>
        </p:nvSpPr>
        <p:spPr>
          <a:xfrm flipV="1">
            <a:off x="3580560" y="2743200"/>
            <a:ext cx="762120" cy="914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traight Connector 46"/>
          <p:cNvSpPr/>
          <p:nvPr/>
        </p:nvSpPr>
        <p:spPr>
          <a:xfrm flipH="1" flipV="1">
            <a:off x="5257800" y="2743200"/>
            <a:ext cx="457200" cy="914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traight Connector 48"/>
          <p:cNvSpPr/>
          <p:nvPr/>
        </p:nvSpPr>
        <p:spPr>
          <a:xfrm flipH="1" flipV="1">
            <a:off x="6172200" y="2743200"/>
            <a:ext cx="1752480" cy="914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49"/>
          <p:cNvSpPr/>
          <p:nvPr/>
        </p:nvSpPr>
        <p:spPr>
          <a:xfrm>
            <a:off x="1523880" y="5410080"/>
            <a:ext cx="62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AME TARGETS ALL YE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velopmental Lev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Content Placeholder 3" descr=""/>
          <p:cNvPicPr/>
          <p:nvPr/>
        </p:nvPicPr>
        <p:blipFill>
          <a:blip r:embed="rId1"/>
          <a:stretch/>
        </p:blipFill>
        <p:spPr>
          <a:xfrm>
            <a:off x="365040" y="1596960"/>
            <a:ext cx="834084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ource of Noticing Tar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Content Placeholder 9" descr=""/>
          <p:cNvPicPr/>
          <p:nvPr/>
        </p:nvPicPr>
        <p:blipFill>
          <a:blip r:embed="rId1"/>
          <a:stretch/>
        </p:blipFill>
        <p:spPr>
          <a:xfrm>
            <a:off x="450720" y="1212840"/>
            <a:ext cx="8242560" cy="4535640"/>
          </a:xfrm>
          <a:prstGeom prst="rect">
            <a:avLst/>
          </a:prstGeom>
          <a:ln w="0">
            <a:noFill/>
          </a:ln>
        </p:spPr>
      </p:pic>
      <p:pic>
        <p:nvPicPr>
          <p:cNvPr id="75" name="Diagram 10" descr=""/>
          <p:cNvPicPr/>
          <p:nvPr/>
        </p:nvPicPr>
        <p:blipFill>
          <a:blip r:embed="rId2"/>
          <a:stretch/>
        </p:blipFill>
        <p:spPr>
          <a:xfrm>
            <a:off x="1517760" y="1390680"/>
            <a:ext cx="610848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lection Proces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Use criteria and select targets according to them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ited to strengths of tea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ignment with congregational v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ure of the lear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ature &amp; content of approach to lear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ationships between targets in different doma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lection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ork intuitively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ider which targets “make sense” to you for your learn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professional judg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 at the criteria and see how your choices hold up to th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3:36:42Z</dcterms:created>
  <dc:creator> </dc:creator>
  <dc:description/>
  <dc:language>en-US</dc:language>
  <cp:lastModifiedBy>marxa</cp:lastModifiedBy>
  <dcterms:modified xsi:type="dcterms:W3CDTF">2009-11-12T17:09:38Z</dcterms:modified>
  <cp:revision>32</cp:revision>
  <dc:subject/>
  <dc:title>Slide 1</dc:title>
</cp:coreProperties>
</file>